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29F-D2B8-4776-9CC8-D4FFE054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B4D-4CD0-44E0-BD4A-35E9EDEB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770-EA36-4032-AE45-29BABE72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87A-BF15-4A3C-9C62-84EC149B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B0E-05B1-49E0-B12D-45977BE8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98D5-CEAB-482B-904C-71BC705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1FD-AC92-45E4-997E-7E08E81F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4E25-64B1-4E52-881F-88E2B647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4F8-EB26-40A2-97D9-5D8DE8A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90F7-8A9C-4D3B-8804-D47A557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F79C-8A49-44DA-9AF7-399FFD8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AE2-6127-4FDB-85CB-BF26712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92CD-B765-4042-AA26-543B2A2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B602-815B-4685-B61E-D5A030A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EEB8-64DA-4332-9661-5192E10C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3AD-FA1F-42DB-BC02-867151A3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A020-C410-41A7-8945-7504F443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3E5-AE48-4CF9-8074-0C43A9F0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E85-3636-4978-ACFC-F9216238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C25-2388-4E86-A7E9-25CEFBC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F67-BF41-44BF-B063-059BF5A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FC8-18FE-47D7-B1C3-43A3A15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557-6720-49D9-ABA8-F7F9A28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A95-6433-49CA-9D66-2425ADB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770-970F-41C8-BDB8-78E193CC38C8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87F-5E5A-43FD-B4C4-065A104DA2FD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cc"/>
                </a:solidFill>
                <a:latin typeface="Times New Roman"/>
              </a:rPr>
              <a:t>ADAM  MICKIEWIC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ffffcc"/>
                </a:solidFill>
                <a:latin typeface="Times New Roman"/>
              </a:rPr>
              <a:t>Adaptacje filmowe i teatralne utworów Adama Mickiewicz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adam-1822" descr=""/>
          <p:cNvPicPr/>
          <p:nvPr/>
        </p:nvPicPr>
        <p:blipFill>
          <a:blip r:embed="rId1"/>
          <a:stretch/>
        </p:blipFill>
        <p:spPr>
          <a:xfrm>
            <a:off x="0" y="990720"/>
            <a:ext cx="1523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TEATR STARY w KRAKOW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4stary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Prezentację wykonał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cc"/>
                </a:solidFill>
                <a:latin typeface="Times New Roman"/>
              </a:rPr>
              <a:t>Danuta Cichec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Plakat z filmu „Pan Tadeusz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Robak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24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SCENY Z FILMU „PAN TADEUSZ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ffffcc"/>
                </a:solidFill>
                <a:latin typeface="Times New Roman"/>
              </a:rPr>
              <a:t>W REŻYSERII ANDRZEJA WAJD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Tadeusz i Telimen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Telimen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Hrab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Hrabia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48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Zos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Zosia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imes New Roman"/>
              </a:rPr>
              <a:t>Daniel Olbrychski jako Gerwaz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Gerwazy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imes New Roman"/>
              </a:rPr>
              <a:t>SPEKTAKLE TEATRAL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Times New Roman"/>
              </a:rPr>
              <a:t>Najczęściej na deskach teatru wystawiano „Dziady”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BL00532A" descr=""/>
          <p:cNvPicPr/>
          <p:nvPr/>
        </p:nvPicPr>
        <p:blipFill>
          <a:blip r:embed="rId1"/>
          <a:stretch/>
        </p:blipFill>
        <p:spPr>
          <a:xfrm>
            <a:off x="0" y="2519280"/>
            <a:ext cx="43718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Dziady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dziady01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142" name="dziady0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dziady04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2:31:17Z</dcterms:created>
  <dc:creator>MEN</dc:creator>
  <dc:description/>
  <dc:language>en-US</dc:language>
  <cp:lastModifiedBy>MEN</cp:lastModifiedBy>
  <dcterms:modified xsi:type="dcterms:W3CDTF">2002-01-11T12:08:38Z</dcterms:modified>
  <cp:revision>25</cp:revision>
  <dc:subject/>
  <dc:title>ADAM  MICKIEWICZ</dc:title>
</cp:coreProperties>
</file>